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952-630D-469D-980C-7736CDF8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D4B-2BA5-424F-B690-56F4C06F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A3D-2B82-4C45-8128-91F0DD15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2A4-C117-4029-84F5-3C1D9C2E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4BE-47D2-4A69-B4ED-4B99EDB4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747-53A0-4958-94AB-AE4FE7CD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47A-FE53-4F50-8F18-AFFD1062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779-CE11-4D2F-B18A-B78B70B5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3F6-6090-40E6-A86A-F8259258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447-E5E2-4222-861C-D1BF4B65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110-BA22-4A15-BCE8-B1CAA0A0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7D0-9C2F-4221-8727-39211769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F0EBB-E0F7-48BC-AD2D-52CF347E82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5BC8B-8E99-4B00-9A79-7464C98DA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7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 Surface Temperature (SST) data quality from the Group for High Resolution SST (GHRSS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Ed Armstrong</a:t>
            </a:r>
            <a:br>
              <a:rPr sz="2200"/>
            </a:b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ASA JPL PO.DA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GHRSST Science Team m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2011 ESIP Summer mee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14 July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RSST 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2 – 2010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ST data products for GODAE: a international ocean modeling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included an assessment of Level 2P sensor accuracy (as best can be determined by the provi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RSST terminology for this: Single Sensor Error Statistics (S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ias and standard deviation provided for each pix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the data producer best estimate of the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RSST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ximity_confidence” : 0-5 scale representing assessed pixel qua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genous across all sens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is excellent, 4 is acceptable, 3 is suspect, 2 is bad, 1 is really bad (never use), 0 is unpro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jection_flags” &amp; “confidence_flag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bit flags a data provider can use to convey more information, e.g., algorithm used,  is the pixel over/near sea ice.....near land, or over a lake, in high wind region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RSST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 statistics ultimately tied to the Global Drifter Program (1000+ buoys) and som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 sit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to ARGO drifters with improved SST cap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pproach has its own intrinsic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RSST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data processing spec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_level” : overall indication of L2P pixel quality. 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flect CEOS QA4EO (Quality Indicator) guidelines. Also 0-5 fl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2p_flags” : differentiate IR vs MW, land, lake, ice, other additional flag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Screen shot 2011-07-14 at 9.13.41 AM.png"/>
          <p:cNvPicPr/>
          <p:nvPr/>
        </p:nvPicPr>
        <p:blipFill>
          <a:blip r:embed="rId1"/>
          <a:stretch/>
        </p:blipFill>
        <p:spPr>
          <a:xfrm>
            <a:off x="1141560" y="3592440"/>
            <a:ext cx="6524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RSST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3. Same errors statistics, quality and other flagging as L2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s pixel statistics: number, sum, sum^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4 (blended S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sis_error”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timated error standard deviation of analysed_s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ly falls out as part of the Objective Analyses (e.g.,  3D-VAR)  merging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T error budget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Screen shot 2011-07-13 at 5.15.39 PM.png"/>
          <p:cNvPicPr/>
          <p:nvPr/>
        </p:nvPicPr>
        <p:blipFill>
          <a:blip r:embed="rId1"/>
          <a:srcRect l="-38663" t="0" r="-3866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2484360" y="1890720"/>
            <a:ext cx="2438640" cy="1992240"/>
          </a:xfrm>
          <a:prstGeom prst="rect">
            <a:avLst/>
          </a:prstGeom>
          <a:noFill/>
          <a:ln w="381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484360" y="4060800"/>
            <a:ext cx="2438640" cy="1947960"/>
          </a:xfrm>
          <a:prstGeom prst="rect">
            <a:avLst/>
          </a:prstGeom>
          <a:noFill/>
          <a:ln w="381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T accurac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Screen shot 2011-07-14 at 9.58.57 AM.png"/>
          <p:cNvPicPr/>
          <p:nvPr/>
        </p:nvPicPr>
        <p:blipFill>
          <a:blip r:embed="rId1"/>
          <a:srcRect l="0" t="-3314" r="0" b="-3314"/>
          <a:stretch/>
        </p:blipFill>
        <p:spPr>
          <a:xfrm>
            <a:off x="1306440" y="1335240"/>
            <a:ext cx="6054840" cy="332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Screen shot 2011-07-14 at 9.59.12 AM.png"/>
          <p:cNvPicPr/>
          <p:nvPr/>
        </p:nvPicPr>
        <p:blipFill>
          <a:blip r:embed="rId2"/>
          <a:stretch/>
        </p:blipFill>
        <p:spPr>
          <a:xfrm>
            <a:off x="1407960" y="4210200"/>
            <a:ext cx="5742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4:00:33Z</dcterms:created>
  <dc:creator>Edward Armstrong</dc:creator>
  <dc:description/>
  <dc:language>en-US</dc:language>
  <cp:lastModifiedBy>Leptoukh</cp:lastModifiedBy>
  <dcterms:modified xsi:type="dcterms:W3CDTF">2011-09-21T12:08:00Z</dcterms:modified>
  <cp:revision>34</cp:revision>
  <dc:subject/>
  <dc:title>SST quality from the Group for High Resolution SST (GHRSST0</dc:title>
</cp:coreProperties>
</file>